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0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29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camera.wav" ContentType="audio/x-wav"/>
  <Override PartName="/ppt/media/image1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<Relationship Id="rId42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6-08-26T23:04:20.062000000" idx="1">
    <p:pos x="5568" y="663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201-94BA-4886-A325-C0970BFB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2F5-D9E8-48A9-80F7-1E27F892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0DFF2-1584-4CB3-80D5-E84E2779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2CE76-EF9C-4796-A332-2937276A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1CA12-5011-46D1-BC99-A5C01FA1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B1EC0-046C-40E4-9B17-1EC353E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FBF52-C393-4EF4-9EE0-B65946F0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9F9AF-DE9B-4D88-A14E-0A022DE0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E9CF2-5FBC-4B05-BAD5-42596CD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61CBE-5C13-4E5F-97EC-F232BF24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7C6592-5696-4D2E-BF6B-DAA19DA0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4262F-96D4-48AD-A4F6-4D28DB01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707-ACC3-4225-9610-808BBD22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2BE40-5655-4AA8-B142-D8423E09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91768-D5BD-4267-94E4-0062BB38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D7785-7709-48DE-AAAA-56EE34A5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DCA9D-EC94-4439-9FA7-D8C8F205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F47E7-0F9D-417E-8FE6-6F6271D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0839F-DC5C-486E-AFC5-B9CBC6D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FCB4C-4586-45ED-A0DA-7817C4E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1583E-64D0-4B70-AC00-E546A28F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6D335-F9B2-4968-82C2-DC12685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0FAEB-0DC9-4C9B-AD9E-723FE7C1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DC1-71CB-405E-BD35-A5AE91D0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6BC0-1F72-4A53-B253-231095B8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D30C3-571A-42AE-B879-550C58AB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5EAD-AF71-4069-8C9A-3F94FF99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6C73E-95AB-40A1-8C4E-B5B82742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E24F-312B-479C-A220-F6F11D87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08C30-9999-423E-8F27-E3C83093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C1B8-3653-4CDA-A5DB-D3EB1D48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123BF-7516-43E1-9016-F9DE1A1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0B897-1797-4DE3-A426-23036D5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CEAAE-9F11-4BB2-BDBE-CA29CDAF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4328-8804-46F1-89A9-F069C115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74E3-8DDD-4569-B33B-93C8E7ED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4470-A8B6-409F-B66C-70B2CF63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01283-B1EE-40AA-86B6-FB2AECBDD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2E95B-A0A8-4000-90EA-23F39315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67D41-2CD8-45B0-950F-4D4E9C1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492D2-F834-4369-BD72-F5451974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03ED6-36FE-4B0C-9FF6-437DE3A0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CAFD5-4E22-404D-9B4A-F530E6B8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5B4D0-4DC8-44F5-AF82-900FBA4E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9F0FF-B281-429A-B578-6A200507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7077-BF83-4D64-9FF4-6F5D5D77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875A9-5813-49F7-8AF0-C2993B00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040D3-487F-4578-8630-F6473DB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072CF-F9ED-4B05-9EB5-FDCA27D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5A041-A79C-40B9-A61C-38F9AE9B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E7679-ABBE-47F2-A222-97C89097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7B66-DA07-4F3D-9B22-1A6B1B1F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B5A4-08E9-4C0A-8124-2944233A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BC2E-8F89-49DF-9F84-C9103B20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AC3A-37CB-47AE-9030-F4E21906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90E7-C09E-4757-811C-1A9C264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8CA-1654-49F9-91C0-092A45F8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BBB0-B298-4ED9-91B7-1712BEE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A7AF-3563-42C9-9B7F-B85E1A35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1849-DB23-492B-86B6-767E681B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0E62-C73B-4519-A220-471B60C6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2EA5-D3D0-4AB2-BF2D-7039D07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4906-02B3-4F41-9CA1-477A5335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ADD2C-3C17-4B6E-898D-DACC88C4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487F-04EB-4F40-8854-50D10BBB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92B2A-51BA-4B50-B30F-77EB4E6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1DA02-3048-477A-A089-18BB9A1E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442-8ABF-40AF-827C-4DFDAC3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EBEF3-4E6E-40B9-BCC9-98F08FFA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1D0F-5F08-4D14-B588-E63C9F87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3C61-D96C-4A52-88D4-50529537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F887F-44D8-472F-8C6F-6EF9071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2EFA8-C6A0-490D-8D8E-ACF39B2F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B756-5D02-4E72-B072-36FAA09A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0B52-99F1-41AC-B121-E24875450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479B-B89D-40E8-88AD-F5F25435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9F24D-E533-4046-8D34-284FC9B7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504B-FDC6-40D0-BB68-4D0D32AF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CD38-80C3-443C-B35D-45BECB15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A112-0139-4125-BDC6-0828AFDE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1E711-6A02-4571-9915-C949B4B7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9AE6-101B-4C58-BF23-A9E2BECB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9A79F-2402-40E9-A5C1-ACFCB2B6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86B8-D99A-42F3-89AB-A4144202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335A-E203-4D2B-841A-3C7927F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FC67E-F469-4C15-85F5-0DBBB1A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13169-9932-4319-98AC-DF86BBF2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47E5-73D7-4294-A466-81FB9210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25CE-6D71-41E2-A1F7-3C62E35D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A34-72C8-4713-8F98-056AE6C5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14BD-D311-4A07-9E93-0DFC155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57E70-E060-488C-A243-E3DC9BC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874BC-378A-49CD-9C40-C685797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1849C-FA09-4770-B3CF-A3A35083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0DB50-E451-42F2-93F9-BA228AD8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9AB1-B9C1-4FD9-B4A2-3F306168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BF5E3-8747-4046-9E12-57651F50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63E9-B73B-417E-B872-4253631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9C684-5757-4E8A-9B30-CD1A92F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CC06-5CAF-40FA-8A25-181E5909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4F2C-A868-4694-B246-9868725D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1EEDC-0CDF-4616-9EF9-C8F5CD06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40F15-FB9B-4980-8306-36F84C83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A3381-0E74-4B3B-ABEF-5C3D7924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C8C51-97C3-4226-9A0C-C1112F1F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3DB0-2AC1-404C-9754-639DFB73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EFACE-C714-45DE-877C-995A78B2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6777-8E8C-4905-9E8B-CE5C3D20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5F06-0524-45C9-BC48-0F3A7F2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D20B-C4F7-44F3-90FA-9A7D037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817E-6624-4F7E-B1AE-A0168B57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988-EECC-497A-B22B-1006482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B193-15E7-4486-91FA-2D7D3689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2C866-D792-4DBF-A42A-EB47A0DB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CB58F-79B1-4567-9D81-89B87711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10F01-EABA-4750-AC61-499FD8C1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F4984-E4A4-4AD1-9E54-46ECCB3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8CF4-DB39-4A0D-B8C6-8522BB0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DE94C-C943-419B-8247-66A69F3A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DC93-B1B7-49D9-98A9-9B2BB1E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0C403-D977-4E59-85F2-B48E3C94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B6D9B-CF5D-43A4-A63F-7FEDB2E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9D0-ECD5-4371-BA42-4DEB720B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1EB2-DEA2-4C44-AE31-44630178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C118-F45E-43CB-BE19-8447507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89B47-E09A-404B-B7D6-6BD0493A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CFCC-AB2E-43B5-9402-3E85C8E6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489B7-79B1-4D92-86F3-B3C32473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4BCF9-E7EC-4FC4-A0CE-ECB234BD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97B2B-0DA9-441E-BA8D-128ACB0F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612DC-AA66-4067-BCFD-471764DB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2E6E4-AB63-4A30-8DE4-7AD7AA01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7C6A-994C-4502-96AA-63C63B99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9BE8-8D92-4429-B75C-2C583E1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3D59-56F4-4092-A988-38358C27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06249-0376-4824-9C84-2B955C0A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E7CA0-09D8-4BA8-AFC7-81BDCDCC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7AAAB-AAF0-49D9-A35C-2F9D72D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05E0C-6FB0-48D6-85ED-0F7A3CE6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8A3A3-7E5B-4FF9-ADCB-924706B9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B3F48-8294-4944-B5C5-CB2B0051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96CB-86FE-481B-9B92-734C64CA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A69A9-275E-4F18-A24D-585E6FD9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7B5AF-F486-4048-BF8A-C86773BA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403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403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403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403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403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403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403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025F-2B8C-48AB-8BEB-6EDC70FABB5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F760-21CC-4796-ABE0-EC7268F252E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E5ED-0C1F-4850-8F3C-8C31140253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8CD-3D3C-4094-A4EB-A2132F117C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505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505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505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506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506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506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506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637-95FE-4F9E-B931-C216B5F3348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7675-9537-4463-83BD-D921D4B568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4A2-BD0F-4E98-8315-3749EF5D91F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EE3-D6DA-42F2-9DA6-15847A79CAB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C4A8-8C39-4724-A121-08599830296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C507-B7E7-4193-8F26-AD0F2214C61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B5B-64B9-4349-9DE4-29EB8EF066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B2B7-5E22-4945-9265-660D6F4CF8B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2411280" y="126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黑体"/>
              </a:rPr>
              <a:t>3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江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08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0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1403280" y="2781360"/>
            <a:ext cx="673272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608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0" name="Text Box 3"/>
          <p:cNvSpPr/>
          <p:nvPr/>
        </p:nvSpPr>
        <p:spPr>
          <a:xfrm>
            <a:off x="3929040" y="-42696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700" spc="-1" strike="noStrike" u="sng">
                <a:solidFill>
                  <a:srgbClr val="000000"/>
                </a:solidFill>
                <a:uFillTx/>
                <a:latin typeface="方正舒体"/>
                <a:ea typeface="方正舒体"/>
              </a:rPr>
              <a:t>xī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11" name="Group 4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612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1979640" y="4077000"/>
              <a:ext cx="5688000" cy="360"/>
              <a:chOff x="1979640" y="4077000"/>
              <a:chExt cx="5688000" cy="360"/>
            </a:xfrm>
          </p:grpSpPr>
          <p:sp>
            <p:nvSpPr>
              <p:cNvPr id="614" name="Line 6"/>
              <p:cNvSpPr/>
              <p:nvPr/>
            </p:nvSpPr>
            <p:spPr>
              <a:xfrm>
                <a:off x="1979640" y="407700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1979640" y="407700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617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9" name="Text Box 9"/>
          <p:cNvSpPr/>
          <p:nvPr/>
        </p:nvSpPr>
        <p:spPr>
          <a:xfrm>
            <a:off x="3297960" y="8571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西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东西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西边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西方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622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4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6"/>
          <p:cNvSpPr/>
          <p:nvPr/>
        </p:nvSpPr>
        <p:spPr>
          <a:xfrm>
            <a:off x="2843280" y="1341360"/>
            <a:ext cx="4067280" cy="472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3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江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江南可采莲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莲叶何田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东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西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南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北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PICT0189"/>
          <p:cNvPicPr/>
          <p:nvPr/>
        </p:nvPicPr>
        <p:blipFill>
          <a:blip r:embed="rId1"/>
          <a:stretch/>
        </p:blipFill>
        <p:spPr>
          <a:xfrm>
            <a:off x="900000" y="1125360"/>
            <a:ext cx="766764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PICT0185"/>
          <p:cNvPicPr/>
          <p:nvPr/>
        </p:nvPicPr>
        <p:blipFill>
          <a:blip r:embed="rId1"/>
          <a:stretch/>
        </p:blipFill>
        <p:spPr>
          <a:xfrm>
            <a:off x="1403280" y="981000"/>
            <a:ext cx="6228000" cy="50850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3"/>
          <p:cNvSpPr/>
          <p:nvPr/>
        </p:nvSpPr>
        <p:spPr>
          <a:xfrm>
            <a:off x="8001000" y="4648320"/>
            <a:ext cx="1143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http://hiphotos.baidu.com/zcwangshoudong/pic/item/6e58ab84866dd47d66096e34.jpg"/>
          <p:cNvPicPr/>
          <p:nvPr/>
        </p:nvPicPr>
        <p:blipFill>
          <a:blip r:embed="rId1"/>
          <a:stretch/>
        </p:blipFill>
        <p:spPr>
          <a:xfrm>
            <a:off x="971640" y="907920"/>
            <a:ext cx="6970680" cy="5137200"/>
          </a:xfrm>
          <a:prstGeom prst="rect">
            <a:avLst/>
          </a:prstGeom>
          <a:ln w="0">
            <a:noFill/>
          </a:ln>
        </p:spPr>
      </p:pic>
      <p:sp>
        <p:nvSpPr>
          <p:cNvPr id="630" name="云形 3"/>
          <p:cNvSpPr/>
          <p:nvPr/>
        </p:nvSpPr>
        <p:spPr>
          <a:xfrm>
            <a:off x="6732720" y="6524640"/>
            <a:ext cx="863640" cy="504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cccc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4f7a474e32bf4e7009f7efae"/>
          <p:cNvPicPr/>
          <p:nvPr/>
        </p:nvPicPr>
        <p:blipFill>
          <a:blip r:embed="rId1"/>
          <a:stretch/>
        </p:blipFill>
        <p:spPr>
          <a:xfrm>
            <a:off x="611280" y="836640"/>
            <a:ext cx="81532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http://hiphotos.baidu.com/zcwangshoudong/pic/item/6e58ab84866dd47d66096e34.jpg"/>
          <p:cNvPicPr/>
          <p:nvPr/>
        </p:nvPicPr>
        <p:blipFill>
          <a:blip r:embed="rId1"/>
          <a:stretch/>
        </p:blipFill>
        <p:spPr>
          <a:xfrm>
            <a:off x="900000" y="1052640"/>
            <a:ext cx="6683400" cy="44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3"/>
          <p:cNvSpPr/>
          <p:nvPr/>
        </p:nvSpPr>
        <p:spPr>
          <a:xfrm>
            <a:off x="2629080" y="1989000"/>
            <a:ext cx="5472000" cy="1923480"/>
          </a:xfrm>
          <a:prstGeom prst="rect">
            <a:avLst/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江南可采莲，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莲叶</a:t>
            </a: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"/>
              </a:rPr>
              <a:t>何田田。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http://pic1.ooopic.cn/uploadfilepic/remenhangye/2009-11-20/OOOPIC_wuxiaomei_2009112046fcd0e51eb0a4dd.jpg"/>
          <p:cNvPicPr/>
          <p:nvPr/>
        </p:nvPicPr>
        <p:blipFill>
          <a:blip r:embed="rId1"/>
          <a:stretch/>
        </p:blipFill>
        <p:spPr>
          <a:xfrm>
            <a:off x="1042920" y="1341360"/>
            <a:ext cx="6800760" cy="43912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179280" y="189000"/>
            <a:ext cx="3672000" cy="826200"/>
          </a:xfrm>
          <a:prstGeom prst="rect">
            <a:avLst/>
          </a:prstGeom>
          <a:solidFill>
            <a:srgbClr val="808080"/>
          </a:solidFill>
          <a:ln w="9360">
            <a:solidFill>
              <a:srgbClr val="c0c0c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08000" y="206280"/>
            <a:ext cx="3672000" cy="765000"/>
          </a:xfrm>
          <a:prstGeom prst="rect">
            <a:avLst/>
          </a:prstGeom>
          <a:solidFill>
            <a:srgbClr val="80808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间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Object 2" descr=""/>
          <p:cNvPicPr/>
          <p:nvPr/>
        </p:nvPicPr>
        <p:blipFill>
          <a:blip r:embed="rId1"/>
          <a:stretch/>
        </p:blipFill>
        <p:spPr>
          <a:xfrm>
            <a:off x="4788000" y="3724200"/>
            <a:ext cx="4051080" cy="2081160"/>
          </a:xfrm>
          <a:prstGeom prst="rect">
            <a:avLst/>
          </a:prstGeom>
          <a:ln w="0">
            <a:noFill/>
          </a:ln>
        </p:spPr>
      </p:pic>
      <p:pic>
        <p:nvPicPr>
          <p:cNvPr id="638" name="Object 3" descr=""/>
          <p:cNvPicPr/>
          <p:nvPr/>
        </p:nvPicPr>
        <p:blipFill>
          <a:blip r:embed="rId2"/>
          <a:stretch/>
        </p:blipFill>
        <p:spPr>
          <a:xfrm>
            <a:off x="304920" y="1125360"/>
            <a:ext cx="4114800" cy="2227320"/>
          </a:xfrm>
          <a:prstGeom prst="rect">
            <a:avLst/>
          </a:prstGeom>
          <a:ln w="0">
            <a:noFill/>
          </a:ln>
        </p:spPr>
      </p:pic>
      <p:pic>
        <p:nvPicPr>
          <p:cNvPr id="639" name="Object 4" descr=""/>
          <p:cNvPicPr/>
          <p:nvPr/>
        </p:nvPicPr>
        <p:blipFill>
          <a:blip r:embed="rId3"/>
          <a:stretch/>
        </p:blipFill>
        <p:spPr>
          <a:xfrm>
            <a:off x="4788000" y="1125360"/>
            <a:ext cx="4038480" cy="2232360"/>
          </a:xfrm>
          <a:prstGeom prst="rect">
            <a:avLst/>
          </a:prstGeom>
          <a:ln w="0">
            <a:noFill/>
          </a:ln>
        </p:spPr>
      </p:pic>
      <p:pic>
        <p:nvPicPr>
          <p:cNvPr id="640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1998720"/>
          </a:xfrm>
          <a:prstGeom prst="rect">
            <a:avLst/>
          </a:prstGeom>
          <a:ln w="0">
            <a:noFill/>
          </a:ln>
        </p:spPr>
      </p:pic>
      <p:sp>
        <p:nvSpPr>
          <p:cNvPr id="641" name="Oval 6"/>
          <p:cNvSpPr/>
          <p:nvPr/>
        </p:nvSpPr>
        <p:spPr>
          <a:xfrm>
            <a:off x="4067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间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AutoShape 7"/>
          <p:cNvSpPr/>
          <p:nvPr/>
        </p:nvSpPr>
        <p:spPr>
          <a:xfrm>
            <a:off x="4427640" y="2060640"/>
            <a:ext cx="288720" cy="865080"/>
          </a:xfrm>
          <a:prstGeom prst="upArrow">
            <a:avLst>
              <a:gd name="adj1" fmla="val 50000"/>
              <a:gd name="adj2" fmla="val 74892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3" name="AutoShape 8"/>
          <p:cNvSpPr/>
          <p:nvPr/>
        </p:nvSpPr>
        <p:spPr>
          <a:xfrm>
            <a:off x="5219640" y="3429000"/>
            <a:ext cx="865080" cy="287280"/>
          </a:xfrm>
          <a:prstGeom prst="rightArrow">
            <a:avLst>
              <a:gd name="adj1" fmla="val 50000"/>
              <a:gd name="adj2" fmla="val 75254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4" name="AutoShape 9"/>
          <p:cNvSpPr/>
          <p:nvPr/>
        </p:nvSpPr>
        <p:spPr>
          <a:xfrm>
            <a:off x="3132000" y="3357720"/>
            <a:ext cx="863640" cy="287280"/>
          </a:xfrm>
          <a:prstGeom prst="leftArrow">
            <a:avLst>
              <a:gd name="adj1" fmla="val 50000"/>
              <a:gd name="adj2" fmla="val 75129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5" name="AutoShape 10"/>
          <p:cNvSpPr/>
          <p:nvPr/>
        </p:nvSpPr>
        <p:spPr>
          <a:xfrm>
            <a:off x="4427640" y="4149720"/>
            <a:ext cx="288720" cy="863640"/>
          </a:xfrm>
          <a:prstGeom prst="downArrow">
            <a:avLst>
              <a:gd name="adj1" fmla="val 50000"/>
              <a:gd name="adj2" fmla="val 74754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6" name="Oval 11"/>
          <p:cNvSpPr/>
          <p:nvPr/>
        </p:nvSpPr>
        <p:spPr>
          <a:xfrm>
            <a:off x="1835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西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7" name="Oval 12"/>
          <p:cNvSpPr/>
          <p:nvPr/>
        </p:nvSpPr>
        <p:spPr>
          <a:xfrm>
            <a:off x="622764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东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Oval 13"/>
          <p:cNvSpPr/>
          <p:nvPr/>
        </p:nvSpPr>
        <p:spPr>
          <a:xfrm>
            <a:off x="4067280" y="5084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南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Oval 14"/>
          <p:cNvSpPr/>
          <p:nvPr/>
        </p:nvSpPr>
        <p:spPr>
          <a:xfrm>
            <a:off x="4067280" y="836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北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0" name="Oval 15"/>
          <p:cNvSpPr/>
          <p:nvPr/>
        </p:nvSpPr>
        <p:spPr>
          <a:xfrm>
            <a:off x="7812000" y="5013360"/>
            <a:ext cx="719280" cy="790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5"/>
          <p:cNvSpPr/>
          <p:nvPr/>
        </p:nvSpPr>
        <p:spPr>
          <a:xfrm>
            <a:off x="482760" y="3398040"/>
            <a:ext cx="8173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江南自古以来就是一个美丽的地方，那里风景秀丽，风景如画。你们看，那美丽的莲池中，莲叶茂盛，莲花飘香，莲蓬多饱满啊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!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还有许多人在其中采莲呢。唐代诗人卢龟蒙就用诗歌写下了这动人的一幕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Object 2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4038480" cy="2287440"/>
          </a:xfrm>
          <a:prstGeom prst="rect">
            <a:avLst/>
          </a:prstGeom>
          <a:ln w="0">
            <a:noFill/>
          </a:ln>
        </p:spPr>
      </p:pic>
      <p:pic>
        <p:nvPicPr>
          <p:cNvPr id="652" name="Object 3" descr=""/>
          <p:cNvPicPr/>
          <p:nvPr/>
        </p:nvPicPr>
        <p:blipFill>
          <a:blip r:embed="rId2"/>
          <a:stretch/>
        </p:blipFill>
        <p:spPr>
          <a:xfrm>
            <a:off x="304920" y="1052640"/>
            <a:ext cx="4114800" cy="2300040"/>
          </a:xfrm>
          <a:prstGeom prst="rect">
            <a:avLst/>
          </a:prstGeom>
          <a:ln w="0">
            <a:noFill/>
          </a:ln>
        </p:spPr>
      </p:pic>
      <p:pic>
        <p:nvPicPr>
          <p:cNvPr id="653" name="Object 4" descr=""/>
          <p:cNvPicPr/>
          <p:nvPr/>
        </p:nvPicPr>
        <p:blipFill>
          <a:blip r:embed="rId3"/>
          <a:stretch/>
        </p:blipFill>
        <p:spPr>
          <a:xfrm>
            <a:off x="4800600" y="1052640"/>
            <a:ext cx="4038480" cy="2314440"/>
          </a:xfrm>
          <a:prstGeom prst="rect">
            <a:avLst/>
          </a:prstGeom>
          <a:ln w="0">
            <a:noFill/>
          </a:ln>
        </p:spPr>
      </p:pic>
      <p:pic>
        <p:nvPicPr>
          <p:cNvPr id="654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228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744640" y="1600200"/>
            <a:ext cx="4060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东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西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南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鱼戏莲叶北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江南可采莲，莲叶何田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鱼戏莲叶间。鱼戏莲叶东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鱼戏莲叶西，鱼戏莲叶南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鱼戏莲叶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2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658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659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Box 2"/>
          <p:cNvSpPr/>
          <p:nvPr/>
        </p:nvSpPr>
        <p:spPr>
          <a:xfrm>
            <a:off x="571680" y="311472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江南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鱼戏莲叶间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鱼戏莲叶东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鱼戏莲叶西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TextBox 16"/>
          <p:cNvSpPr/>
          <p:nvPr/>
        </p:nvSpPr>
        <p:spPr>
          <a:xfrm>
            <a:off x="1908000" y="537372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鱼戏莲叶北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TextBox 13"/>
          <p:cNvSpPr/>
          <p:nvPr/>
        </p:nvSpPr>
        <p:spPr>
          <a:xfrm>
            <a:off x="1835280" y="465300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鱼戏莲叶南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69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71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6"/>
          <p:cNvSpPr/>
          <p:nvPr/>
        </p:nvSpPr>
        <p:spPr>
          <a:xfrm>
            <a:off x="611280" y="2276640"/>
            <a:ext cx="79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996633"/>
                </a:solidFill>
                <a:uFillTx/>
                <a:latin typeface="华文楷体"/>
                <a:ea typeface="华文楷体"/>
              </a:rPr>
              <a:t>　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写的是江南水乡人们采莲的情景。这首诗共七行两句话。诗句的前两行直接介绍了江南的水乡是采莲的好地方，后五行是写鱼儿在莲叶下面游水嬉戏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6"/>
          <p:cNvSpPr/>
          <p:nvPr/>
        </p:nvSpPr>
        <p:spPr>
          <a:xfrm>
            <a:off x="179280" y="278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本课是一首古诗。选自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《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汉乐府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，整首诗语言生动活泼，通俗易懂，适合儿童阅读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7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79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3"/>
          <p:cNvSpPr/>
          <p:nvPr/>
        </p:nvSpPr>
        <p:spPr>
          <a:xfrm>
            <a:off x="252360" y="255060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情景表演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——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戴上头饰表演鱼儿在荷叶中戏游的欢乐情景</a:t>
            </a:r>
            <a:br>
              <a:rPr sz="3600"/>
            </a:b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4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个同学戴着东、南、西、北的头饰扮演东、南、西、北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3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个同学戴着小鱼的头饰扮演小鱼，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个同学戴着荷叶的头饰扮演荷叶，边背诵边表演。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82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84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6"/>
          <p:cNvSpPr/>
          <p:nvPr/>
        </p:nvSpPr>
        <p:spPr>
          <a:xfrm>
            <a:off x="108000" y="2276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通过本课的学习，我们学会了本课的生字，理解了诗句的意思，看到了江南水乡的美丽景色，感受到了大自然是多么美好，我们以后要更加热爱大自然，保护大自然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8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89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3"/>
          <p:cNvSpPr/>
          <p:nvPr/>
        </p:nvSpPr>
        <p:spPr>
          <a:xfrm>
            <a:off x="539640" y="1773360"/>
            <a:ext cx="8317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背诵课文</a:t>
            </a:r>
            <a:br>
              <a:rPr sz="4000"/>
            </a:b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尝试背诵。（选择自己喜欢的方法练习背诵课文。）</a:t>
            </a:r>
            <a:br>
              <a:rPr sz="3600"/>
            </a:b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抽生背诵，说说你用的什么方法背诵课文。（看图记、根据重点字词记、想象记）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692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94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15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16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1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0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5"/>
          <p:cNvSpPr/>
          <p:nvPr/>
        </p:nvSpPr>
        <p:spPr>
          <a:xfrm>
            <a:off x="1166760" y="155484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江    南  可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采  莲 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1187280" y="39326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鱼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东   西   北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3" name="Group 5"/>
          <p:cNvGrpSpPr/>
          <p:nvPr/>
        </p:nvGrpSpPr>
        <p:grpSpPr>
          <a:xfrm>
            <a:off x="0" y="880920"/>
            <a:ext cx="10621800" cy="4996080"/>
            <a:chOff x="0" y="880920"/>
            <a:chExt cx="10621800" cy="4996080"/>
          </a:xfrm>
        </p:grpSpPr>
        <p:sp>
          <p:nvSpPr>
            <p:cNvPr id="524" name="Text Box 8"/>
            <p:cNvSpPr/>
            <p:nvPr/>
          </p:nvSpPr>
          <p:spPr>
            <a:xfrm>
              <a:off x="971640" y="880920"/>
              <a:ext cx="96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ji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Calibri"/>
                  <a:ea typeface="宋体"/>
                </a:rPr>
                <a:t>ā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ng  n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Calibri"/>
                  <a:ea typeface="宋体"/>
                </a:rPr>
                <a:t>á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n  kě  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Calibri"/>
                  <a:ea typeface="宋体"/>
                </a:rPr>
                <a:t>cǎi  lián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 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0" y="2995560"/>
              <a:ext cx="965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    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y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Calibri"/>
                  <a:ea typeface="宋体"/>
                </a:rPr>
                <a:t>ú      </a:t>
              </a:r>
              <a:r>
                <a:rPr b="0" i="1" lang="en-US" sz="4000" spc="-1" strike="noStrike" u="sng">
                  <a:solidFill>
                    <a:srgbClr val="ff0000"/>
                  </a:solidFill>
                  <a:uFillTx/>
                  <a:latin typeface="宋体"/>
                  <a:ea typeface="宋体"/>
                </a:rPr>
                <a:t>dōng  xī  běi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0" y="5175360"/>
              <a:ext cx="965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2514600" y="1916280"/>
            <a:ext cx="4114800" cy="4114800"/>
            <a:chOff x="2514600" y="1916280"/>
            <a:chExt cx="4114800" cy="4114800"/>
          </a:xfrm>
        </p:grpSpPr>
        <p:grpSp>
          <p:nvGrpSpPr>
            <p:cNvPr id="528" name=""/>
            <p:cNvGrpSpPr/>
            <p:nvPr/>
          </p:nvGrpSpPr>
          <p:grpSpPr>
            <a:xfrm>
              <a:off x="2514600" y="3973680"/>
              <a:ext cx="4114800" cy="360"/>
              <a:chOff x="2514600" y="3973680"/>
              <a:chExt cx="4114800" cy="360"/>
            </a:xfrm>
          </p:grpSpPr>
          <p:sp>
            <p:nvSpPr>
              <p:cNvPr id="529" name="Line 3"/>
              <p:cNvSpPr/>
              <p:nvPr/>
            </p:nvSpPr>
            <p:spPr>
              <a:xfrm>
                <a:off x="2514600" y="397368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2514600" y="397368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31" name="Group 4"/>
            <p:cNvGrpSpPr/>
            <p:nvPr/>
          </p:nvGrpSpPr>
          <p:grpSpPr>
            <a:xfrm>
              <a:off x="2514600" y="1916280"/>
              <a:ext cx="4114800" cy="4114800"/>
              <a:chOff x="2514600" y="1916280"/>
              <a:chExt cx="4114800" cy="4114800"/>
            </a:xfrm>
          </p:grpSpPr>
          <p:sp>
            <p:nvSpPr>
              <p:cNvPr id="532" name="Rectangle 5"/>
              <p:cNvSpPr/>
              <p:nvPr/>
            </p:nvSpPr>
            <p:spPr>
              <a:xfrm>
                <a:off x="2514600" y="191628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4572000" y="1916280"/>
                <a:ext cx="360" cy="4114800"/>
                <a:chOff x="4572000" y="1916280"/>
                <a:chExt cx="360" cy="4114800"/>
              </a:xfrm>
            </p:grpSpPr>
            <p:sp>
              <p:nvSpPr>
                <p:cNvPr id="534" name="Line 6"/>
                <p:cNvSpPr/>
                <p:nvPr/>
              </p:nvSpPr>
              <p:spPr>
                <a:xfrm>
                  <a:off x="4572000" y="191628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>
                  <a:off x="4572000" y="191628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36" name="Rectangle 7"/>
          <p:cNvSpPr/>
          <p:nvPr/>
        </p:nvSpPr>
        <p:spPr>
          <a:xfrm>
            <a:off x="3352320" y="2517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3123000" y="2585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1"/>
          <a:stretch/>
        </p:blipFill>
        <p:spPr>
          <a:xfrm>
            <a:off x="3581280" y="2906640"/>
            <a:ext cx="695520" cy="5810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"/>
          <p:cNvPicPr/>
          <p:nvPr/>
        </p:nvPicPr>
        <p:blipFill>
          <a:blip r:embed="rId2"/>
          <a:stretch/>
        </p:blipFill>
        <p:spPr>
          <a:xfrm>
            <a:off x="4124160" y="2944800"/>
            <a:ext cx="600120" cy="1104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1" descr=""/>
          <p:cNvPicPr/>
          <p:nvPr/>
        </p:nvPicPr>
        <p:blipFill>
          <a:blip r:embed="rId3"/>
          <a:stretch/>
        </p:blipFill>
        <p:spPr>
          <a:xfrm>
            <a:off x="4038480" y="443088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2" descr=""/>
          <p:cNvPicPr/>
          <p:nvPr/>
        </p:nvPicPr>
        <p:blipFill>
          <a:blip r:embed="rId4"/>
          <a:stretch/>
        </p:blipFill>
        <p:spPr>
          <a:xfrm>
            <a:off x="4419720" y="2478240"/>
            <a:ext cx="952560" cy="2943000"/>
          </a:xfrm>
          <a:prstGeom prst="rect">
            <a:avLst/>
          </a:prstGeom>
          <a:ln w="0">
            <a:noFill/>
          </a:ln>
        </p:spPr>
      </p:pic>
      <p:sp>
        <p:nvSpPr>
          <p:cNvPr id="542" name="未知"/>
          <p:cNvSpPr/>
          <p:nvPr/>
        </p:nvSpPr>
        <p:spPr>
          <a:xfrm>
            <a:off x="3144960" y="2449440"/>
            <a:ext cx="2798640" cy="447840"/>
          </a:xfrm>
          <a:custGeom>
            <a:avLst/>
            <a:gdLst/>
            <a:ahLst/>
            <a:rect l="l" t="t" r="r" b="b"/>
            <a:pathLst>
              <a:path w="4409" h="706">
                <a:moveTo>
                  <a:pt x="4409" y="311"/>
                </a:moveTo>
                <a:lnTo>
                  <a:pt x="4409" y="325"/>
                </a:lnTo>
                <a:lnTo>
                  <a:pt x="4409" y="339"/>
                </a:lnTo>
                <a:lnTo>
                  <a:pt x="4395" y="339"/>
                </a:lnTo>
                <a:lnTo>
                  <a:pt x="4380" y="353"/>
                </a:lnTo>
                <a:lnTo>
                  <a:pt x="4366" y="353"/>
                </a:lnTo>
                <a:lnTo>
                  <a:pt x="4352" y="367"/>
                </a:lnTo>
                <a:lnTo>
                  <a:pt x="4338" y="381"/>
                </a:lnTo>
                <a:lnTo>
                  <a:pt x="4310" y="381"/>
                </a:lnTo>
                <a:lnTo>
                  <a:pt x="4267" y="381"/>
                </a:lnTo>
                <a:lnTo>
                  <a:pt x="4253" y="396"/>
                </a:lnTo>
                <a:lnTo>
                  <a:pt x="4225" y="396"/>
                </a:lnTo>
                <a:lnTo>
                  <a:pt x="4196" y="396"/>
                </a:lnTo>
                <a:lnTo>
                  <a:pt x="4168" y="396"/>
                </a:lnTo>
                <a:lnTo>
                  <a:pt x="4139" y="396"/>
                </a:lnTo>
                <a:lnTo>
                  <a:pt x="4111" y="396"/>
                </a:lnTo>
                <a:lnTo>
                  <a:pt x="4069" y="396"/>
                </a:lnTo>
                <a:lnTo>
                  <a:pt x="4026" y="381"/>
                </a:lnTo>
                <a:lnTo>
                  <a:pt x="3998" y="381"/>
                </a:lnTo>
                <a:lnTo>
                  <a:pt x="3941" y="381"/>
                </a:lnTo>
                <a:lnTo>
                  <a:pt x="3898" y="381"/>
                </a:lnTo>
                <a:lnTo>
                  <a:pt x="3856" y="381"/>
                </a:lnTo>
                <a:lnTo>
                  <a:pt x="3757" y="367"/>
                </a:lnTo>
                <a:lnTo>
                  <a:pt x="3672" y="367"/>
                </a:lnTo>
                <a:lnTo>
                  <a:pt x="3587" y="353"/>
                </a:lnTo>
                <a:lnTo>
                  <a:pt x="3516" y="353"/>
                </a:lnTo>
                <a:lnTo>
                  <a:pt x="3459" y="353"/>
                </a:lnTo>
                <a:lnTo>
                  <a:pt x="3402" y="353"/>
                </a:lnTo>
                <a:lnTo>
                  <a:pt x="3346" y="353"/>
                </a:lnTo>
                <a:lnTo>
                  <a:pt x="3317" y="353"/>
                </a:lnTo>
                <a:lnTo>
                  <a:pt x="3275" y="353"/>
                </a:lnTo>
                <a:lnTo>
                  <a:pt x="3218" y="353"/>
                </a:lnTo>
                <a:lnTo>
                  <a:pt x="3176" y="353"/>
                </a:lnTo>
                <a:lnTo>
                  <a:pt x="3105" y="353"/>
                </a:lnTo>
                <a:lnTo>
                  <a:pt x="3034" y="353"/>
                </a:lnTo>
                <a:lnTo>
                  <a:pt x="2963" y="367"/>
                </a:lnTo>
                <a:lnTo>
                  <a:pt x="2864" y="367"/>
                </a:lnTo>
                <a:lnTo>
                  <a:pt x="2764" y="381"/>
                </a:lnTo>
                <a:lnTo>
                  <a:pt x="2566" y="396"/>
                </a:lnTo>
                <a:lnTo>
                  <a:pt x="2353" y="424"/>
                </a:lnTo>
                <a:lnTo>
                  <a:pt x="2127" y="438"/>
                </a:lnTo>
                <a:lnTo>
                  <a:pt x="1900" y="466"/>
                </a:lnTo>
                <a:lnTo>
                  <a:pt x="1673" y="494"/>
                </a:lnTo>
                <a:lnTo>
                  <a:pt x="1432" y="537"/>
                </a:lnTo>
                <a:lnTo>
                  <a:pt x="1177" y="579"/>
                </a:lnTo>
                <a:lnTo>
                  <a:pt x="1049" y="593"/>
                </a:lnTo>
                <a:lnTo>
                  <a:pt x="922" y="622"/>
                </a:lnTo>
                <a:lnTo>
                  <a:pt x="851" y="636"/>
                </a:lnTo>
                <a:lnTo>
                  <a:pt x="794" y="650"/>
                </a:lnTo>
                <a:lnTo>
                  <a:pt x="737" y="650"/>
                </a:lnTo>
                <a:lnTo>
                  <a:pt x="695" y="664"/>
                </a:lnTo>
                <a:lnTo>
                  <a:pt x="638" y="678"/>
                </a:lnTo>
                <a:lnTo>
                  <a:pt x="596" y="678"/>
                </a:lnTo>
                <a:lnTo>
                  <a:pt x="553" y="692"/>
                </a:lnTo>
                <a:lnTo>
                  <a:pt x="511" y="692"/>
                </a:lnTo>
                <a:lnTo>
                  <a:pt x="482" y="692"/>
                </a:lnTo>
                <a:lnTo>
                  <a:pt x="454" y="706"/>
                </a:lnTo>
                <a:lnTo>
                  <a:pt x="425" y="706"/>
                </a:lnTo>
                <a:lnTo>
                  <a:pt x="397" y="706"/>
                </a:lnTo>
                <a:lnTo>
                  <a:pt x="383" y="706"/>
                </a:lnTo>
                <a:lnTo>
                  <a:pt x="369" y="706"/>
                </a:lnTo>
                <a:lnTo>
                  <a:pt x="355" y="706"/>
                </a:lnTo>
                <a:lnTo>
                  <a:pt x="340" y="706"/>
                </a:lnTo>
                <a:lnTo>
                  <a:pt x="326" y="706"/>
                </a:lnTo>
                <a:lnTo>
                  <a:pt x="312" y="706"/>
                </a:lnTo>
                <a:lnTo>
                  <a:pt x="284" y="692"/>
                </a:lnTo>
                <a:lnTo>
                  <a:pt x="270" y="678"/>
                </a:lnTo>
                <a:lnTo>
                  <a:pt x="241" y="664"/>
                </a:lnTo>
                <a:lnTo>
                  <a:pt x="213" y="650"/>
                </a:lnTo>
                <a:lnTo>
                  <a:pt x="184" y="622"/>
                </a:lnTo>
                <a:lnTo>
                  <a:pt x="142" y="593"/>
                </a:lnTo>
                <a:lnTo>
                  <a:pt x="114" y="579"/>
                </a:lnTo>
                <a:lnTo>
                  <a:pt x="85" y="551"/>
                </a:lnTo>
                <a:lnTo>
                  <a:pt x="57" y="537"/>
                </a:lnTo>
                <a:lnTo>
                  <a:pt x="43" y="509"/>
                </a:lnTo>
                <a:lnTo>
                  <a:pt x="29" y="494"/>
                </a:lnTo>
                <a:lnTo>
                  <a:pt x="14" y="480"/>
                </a:lnTo>
                <a:lnTo>
                  <a:pt x="14" y="466"/>
                </a:lnTo>
                <a:lnTo>
                  <a:pt x="14" y="452"/>
                </a:lnTo>
                <a:lnTo>
                  <a:pt x="0" y="452"/>
                </a:lnTo>
                <a:lnTo>
                  <a:pt x="0" y="438"/>
                </a:lnTo>
                <a:lnTo>
                  <a:pt x="14" y="438"/>
                </a:lnTo>
                <a:lnTo>
                  <a:pt x="14" y="424"/>
                </a:lnTo>
                <a:lnTo>
                  <a:pt x="29" y="424"/>
                </a:lnTo>
                <a:lnTo>
                  <a:pt x="57" y="424"/>
                </a:lnTo>
                <a:lnTo>
                  <a:pt x="71" y="424"/>
                </a:lnTo>
                <a:lnTo>
                  <a:pt x="85" y="424"/>
                </a:lnTo>
                <a:lnTo>
                  <a:pt x="99" y="410"/>
                </a:lnTo>
                <a:lnTo>
                  <a:pt x="114" y="410"/>
                </a:lnTo>
                <a:lnTo>
                  <a:pt x="142" y="410"/>
                </a:lnTo>
                <a:lnTo>
                  <a:pt x="170" y="410"/>
                </a:lnTo>
                <a:lnTo>
                  <a:pt x="213" y="410"/>
                </a:lnTo>
                <a:lnTo>
                  <a:pt x="241" y="410"/>
                </a:lnTo>
                <a:lnTo>
                  <a:pt x="284" y="396"/>
                </a:lnTo>
                <a:lnTo>
                  <a:pt x="326" y="396"/>
                </a:lnTo>
                <a:lnTo>
                  <a:pt x="369" y="396"/>
                </a:lnTo>
                <a:lnTo>
                  <a:pt x="425" y="381"/>
                </a:lnTo>
                <a:lnTo>
                  <a:pt x="482" y="381"/>
                </a:lnTo>
                <a:lnTo>
                  <a:pt x="539" y="381"/>
                </a:lnTo>
                <a:lnTo>
                  <a:pt x="596" y="381"/>
                </a:lnTo>
                <a:lnTo>
                  <a:pt x="837" y="353"/>
                </a:lnTo>
                <a:lnTo>
                  <a:pt x="1092" y="339"/>
                </a:lnTo>
                <a:lnTo>
                  <a:pt x="1333" y="311"/>
                </a:lnTo>
                <a:lnTo>
                  <a:pt x="1588" y="283"/>
                </a:lnTo>
                <a:lnTo>
                  <a:pt x="1715" y="268"/>
                </a:lnTo>
                <a:lnTo>
                  <a:pt x="1857" y="254"/>
                </a:lnTo>
                <a:lnTo>
                  <a:pt x="1999" y="240"/>
                </a:lnTo>
                <a:lnTo>
                  <a:pt x="2155" y="226"/>
                </a:lnTo>
                <a:lnTo>
                  <a:pt x="2325" y="198"/>
                </a:lnTo>
                <a:lnTo>
                  <a:pt x="2495" y="170"/>
                </a:lnTo>
                <a:lnTo>
                  <a:pt x="2679" y="141"/>
                </a:lnTo>
                <a:lnTo>
                  <a:pt x="2864" y="99"/>
                </a:lnTo>
                <a:lnTo>
                  <a:pt x="2963" y="99"/>
                </a:lnTo>
                <a:lnTo>
                  <a:pt x="3048" y="85"/>
                </a:lnTo>
                <a:lnTo>
                  <a:pt x="3133" y="71"/>
                </a:lnTo>
                <a:lnTo>
                  <a:pt x="3218" y="57"/>
                </a:lnTo>
                <a:lnTo>
                  <a:pt x="3289" y="42"/>
                </a:lnTo>
                <a:lnTo>
                  <a:pt x="3360" y="42"/>
                </a:lnTo>
                <a:lnTo>
                  <a:pt x="3431" y="28"/>
                </a:lnTo>
                <a:lnTo>
                  <a:pt x="3487" y="28"/>
                </a:lnTo>
                <a:lnTo>
                  <a:pt x="3544" y="14"/>
                </a:lnTo>
                <a:lnTo>
                  <a:pt x="3601" y="14"/>
                </a:lnTo>
                <a:lnTo>
                  <a:pt x="3643" y="0"/>
                </a:lnTo>
                <a:lnTo>
                  <a:pt x="3686" y="0"/>
                </a:lnTo>
                <a:lnTo>
                  <a:pt x="3714" y="0"/>
                </a:lnTo>
                <a:lnTo>
                  <a:pt x="3743" y="0"/>
                </a:lnTo>
                <a:lnTo>
                  <a:pt x="3771" y="0"/>
                </a:lnTo>
                <a:lnTo>
                  <a:pt x="3799" y="0"/>
                </a:lnTo>
                <a:lnTo>
                  <a:pt x="3828" y="0"/>
                </a:lnTo>
                <a:lnTo>
                  <a:pt x="3870" y="0"/>
                </a:lnTo>
                <a:lnTo>
                  <a:pt x="3913" y="14"/>
                </a:lnTo>
                <a:lnTo>
                  <a:pt x="3969" y="28"/>
                </a:lnTo>
                <a:lnTo>
                  <a:pt x="4012" y="42"/>
                </a:lnTo>
                <a:lnTo>
                  <a:pt x="4069" y="71"/>
                </a:lnTo>
                <a:lnTo>
                  <a:pt x="4125" y="99"/>
                </a:lnTo>
                <a:lnTo>
                  <a:pt x="4182" y="127"/>
                </a:lnTo>
                <a:lnTo>
                  <a:pt x="4239" y="155"/>
                </a:lnTo>
                <a:lnTo>
                  <a:pt x="4281" y="198"/>
                </a:lnTo>
                <a:lnTo>
                  <a:pt x="4324" y="226"/>
                </a:lnTo>
                <a:lnTo>
                  <a:pt x="4352" y="240"/>
                </a:lnTo>
                <a:lnTo>
                  <a:pt x="4380" y="268"/>
                </a:lnTo>
                <a:lnTo>
                  <a:pt x="4395" y="283"/>
                </a:lnTo>
                <a:lnTo>
                  <a:pt x="4409" y="297"/>
                </a:lnTo>
                <a:lnTo>
                  <a:pt x="4409" y="311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3635280" y="3268800"/>
            <a:ext cx="250920" cy="933480"/>
          </a:xfrm>
          <a:custGeom>
            <a:avLst/>
            <a:gdLst/>
            <a:ahLst/>
            <a:rect l="l" t="t" r="r" b="b"/>
            <a:pathLst>
              <a:path w="397" h="1469">
                <a:moveTo>
                  <a:pt x="42" y="255"/>
                </a:moveTo>
                <a:lnTo>
                  <a:pt x="28" y="226"/>
                </a:lnTo>
                <a:lnTo>
                  <a:pt x="14" y="198"/>
                </a:lnTo>
                <a:lnTo>
                  <a:pt x="0" y="170"/>
                </a:lnTo>
                <a:lnTo>
                  <a:pt x="0" y="142"/>
                </a:lnTo>
                <a:lnTo>
                  <a:pt x="0" y="127"/>
                </a:lnTo>
                <a:lnTo>
                  <a:pt x="0" y="99"/>
                </a:lnTo>
                <a:lnTo>
                  <a:pt x="0" y="71"/>
                </a:lnTo>
                <a:lnTo>
                  <a:pt x="0" y="43"/>
                </a:lnTo>
                <a:lnTo>
                  <a:pt x="14" y="29"/>
                </a:lnTo>
                <a:lnTo>
                  <a:pt x="28" y="14"/>
                </a:lnTo>
                <a:lnTo>
                  <a:pt x="42" y="14"/>
                </a:lnTo>
                <a:lnTo>
                  <a:pt x="57" y="0"/>
                </a:lnTo>
                <a:lnTo>
                  <a:pt x="71" y="0"/>
                </a:lnTo>
                <a:lnTo>
                  <a:pt x="85" y="0"/>
                </a:lnTo>
                <a:lnTo>
                  <a:pt x="113" y="0"/>
                </a:lnTo>
                <a:lnTo>
                  <a:pt x="142" y="0"/>
                </a:lnTo>
                <a:lnTo>
                  <a:pt x="170" y="0"/>
                </a:lnTo>
                <a:lnTo>
                  <a:pt x="198" y="0"/>
                </a:lnTo>
                <a:lnTo>
                  <a:pt x="227" y="14"/>
                </a:lnTo>
                <a:lnTo>
                  <a:pt x="269" y="14"/>
                </a:lnTo>
                <a:lnTo>
                  <a:pt x="298" y="29"/>
                </a:lnTo>
                <a:lnTo>
                  <a:pt x="340" y="29"/>
                </a:lnTo>
                <a:lnTo>
                  <a:pt x="397" y="43"/>
                </a:lnTo>
                <a:lnTo>
                  <a:pt x="397" y="198"/>
                </a:lnTo>
                <a:lnTo>
                  <a:pt x="397" y="339"/>
                </a:lnTo>
                <a:lnTo>
                  <a:pt x="397" y="466"/>
                </a:lnTo>
                <a:lnTo>
                  <a:pt x="397" y="594"/>
                </a:lnTo>
                <a:lnTo>
                  <a:pt x="397" y="707"/>
                </a:lnTo>
                <a:lnTo>
                  <a:pt x="383" y="820"/>
                </a:lnTo>
                <a:lnTo>
                  <a:pt x="383" y="904"/>
                </a:lnTo>
                <a:lnTo>
                  <a:pt x="383" y="1003"/>
                </a:lnTo>
                <a:lnTo>
                  <a:pt x="383" y="1074"/>
                </a:lnTo>
                <a:lnTo>
                  <a:pt x="383" y="1144"/>
                </a:lnTo>
                <a:lnTo>
                  <a:pt x="383" y="1201"/>
                </a:lnTo>
                <a:lnTo>
                  <a:pt x="383" y="1257"/>
                </a:lnTo>
                <a:lnTo>
                  <a:pt x="383" y="1300"/>
                </a:lnTo>
                <a:lnTo>
                  <a:pt x="383" y="1328"/>
                </a:lnTo>
                <a:lnTo>
                  <a:pt x="368" y="1356"/>
                </a:lnTo>
                <a:lnTo>
                  <a:pt x="368" y="1370"/>
                </a:lnTo>
                <a:lnTo>
                  <a:pt x="368" y="1399"/>
                </a:lnTo>
                <a:lnTo>
                  <a:pt x="354" y="1413"/>
                </a:lnTo>
                <a:lnTo>
                  <a:pt x="354" y="1427"/>
                </a:lnTo>
                <a:lnTo>
                  <a:pt x="340" y="1441"/>
                </a:lnTo>
                <a:lnTo>
                  <a:pt x="340" y="1455"/>
                </a:lnTo>
                <a:lnTo>
                  <a:pt x="326" y="1455"/>
                </a:lnTo>
                <a:lnTo>
                  <a:pt x="312" y="1469"/>
                </a:lnTo>
                <a:lnTo>
                  <a:pt x="312" y="1455"/>
                </a:lnTo>
                <a:lnTo>
                  <a:pt x="298" y="1455"/>
                </a:lnTo>
                <a:lnTo>
                  <a:pt x="298" y="1441"/>
                </a:lnTo>
                <a:lnTo>
                  <a:pt x="283" y="1427"/>
                </a:lnTo>
                <a:lnTo>
                  <a:pt x="283" y="1413"/>
                </a:lnTo>
                <a:lnTo>
                  <a:pt x="269" y="1384"/>
                </a:lnTo>
                <a:lnTo>
                  <a:pt x="269" y="1356"/>
                </a:lnTo>
                <a:lnTo>
                  <a:pt x="255" y="1328"/>
                </a:lnTo>
                <a:lnTo>
                  <a:pt x="241" y="1286"/>
                </a:lnTo>
                <a:lnTo>
                  <a:pt x="241" y="1243"/>
                </a:lnTo>
                <a:lnTo>
                  <a:pt x="227" y="1201"/>
                </a:lnTo>
                <a:lnTo>
                  <a:pt x="227" y="1144"/>
                </a:lnTo>
                <a:lnTo>
                  <a:pt x="212" y="1088"/>
                </a:lnTo>
                <a:lnTo>
                  <a:pt x="212" y="1031"/>
                </a:lnTo>
                <a:lnTo>
                  <a:pt x="198" y="975"/>
                </a:lnTo>
                <a:lnTo>
                  <a:pt x="198" y="904"/>
                </a:lnTo>
                <a:lnTo>
                  <a:pt x="184" y="834"/>
                </a:lnTo>
                <a:lnTo>
                  <a:pt x="184" y="777"/>
                </a:lnTo>
                <a:lnTo>
                  <a:pt x="170" y="707"/>
                </a:lnTo>
                <a:lnTo>
                  <a:pt x="170" y="664"/>
                </a:lnTo>
                <a:lnTo>
                  <a:pt x="156" y="608"/>
                </a:lnTo>
                <a:lnTo>
                  <a:pt x="142" y="551"/>
                </a:lnTo>
                <a:lnTo>
                  <a:pt x="142" y="509"/>
                </a:lnTo>
                <a:lnTo>
                  <a:pt x="127" y="466"/>
                </a:lnTo>
                <a:lnTo>
                  <a:pt x="113" y="424"/>
                </a:lnTo>
                <a:lnTo>
                  <a:pt x="113" y="396"/>
                </a:lnTo>
                <a:lnTo>
                  <a:pt x="99" y="353"/>
                </a:lnTo>
                <a:lnTo>
                  <a:pt x="85" y="325"/>
                </a:lnTo>
                <a:lnTo>
                  <a:pt x="71" y="311"/>
                </a:lnTo>
                <a:lnTo>
                  <a:pt x="71" y="283"/>
                </a:lnTo>
                <a:lnTo>
                  <a:pt x="57" y="269"/>
                </a:lnTo>
                <a:lnTo>
                  <a:pt x="42" y="255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4" name="未知"/>
          <p:cNvSpPr/>
          <p:nvPr/>
        </p:nvSpPr>
        <p:spPr>
          <a:xfrm>
            <a:off x="3809880" y="3821040"/>
            <a:ext cx="684360" cy="233280"/>
          </a:xfrm>
          <a:custGeom>
            <a:avLst/>
            <a:gdLst/>
            <a:ahLst/>
            <a:rect l="l" t="t" r="r" b="b"/>
            <a:pathLst>
              <a:path w="1077" h="367">
                <a:moveTo>
                  <a:pt x="963" y="56"/>
                </a:moveTo>
                <a:lnTo>
                  <a:pt x="992" y="70"/>
                </a:lnTo>
                <a:lnTo>
                  <a:pt x="1006" y="85"/>
                </a:lnTo>
                <a:lnTo>
                  <a:pt x="1034" y="99"/>
                </a:lnTo>
                <a:lnTo>
                  <a:pt x="1049" y="113"/>
                </a:lnTo>
                <a:lnTo>
                  <a:pt x="1063" y="127"/>
                </a:lnTo>
                <a:lnTo>
                  <a:pt x="1063" y="141"/>
                </a:lnTo>
                <a:lnTo>
                  <a:pt x="1077" y="155"/>
                </a:lnTo>
                <a:lnTo>
                  <a:pt x="1077" y="169"/>
                </a:lnTo>
                <a:lnTo>
                  <a:pt x="1063" y="169"/>
                </a:lnTo>
                <a:lnTo>
                  <a:pt x="1049" y="183"/>
                </a:lnTo>
                <a:lnTo>
                  <a:pt x="1034" y="197"/>
                </a:lnTo>
                <a:lnTo>
                  <a:pt x="1006" y="197"/>
                </a:lnTo>
                <a:lnTo>
                  <a:pt x="963" y="212"/>
                </a:lnTo>
                <a:lnTo>
                  <a:pt x="921" y="226"/>
                </a:lnTo>
                <a:lnTo>
                  <a:pt x="864" y="240"/>
                </a:lnTo>
                <a:lnTo>
                  <a:pt x="793" y="254"/>
                </a:lnTo>
                <a:lnTo>
                  <a:pt x="722" y="268"/>
                </a:lnTo>
                <a:lnTo>
                  <a:pt x="652" y="268"/>
                </a:lnTo>
                <a:lnTo>
                  <a:pt x="552" y="282"/>
                </a:lnTo>
                <a:lnTo>
                  <a:pt x="467" y="310"/>
                </a:lnTo>
                <a:lnTo>
                  <a:pt x="354" y="325"/>
                </a:lnTo>
                <a:lnTo>
                  <a:pt x="241" y="339"/>
                </a:lnTo>
                <a:lnTo>
                  <a:pt x="127" y="353"/>
                </a:lnTo>
                <a:lnTo>
                  <a:pt x="0" y="367"/>
                </a:lnTo>
                <a:lnTo>
                  <a:pt x="0" y="141"/>
                </a:lnTo>
                <a:lnTo>
                  <a:pt x="14" y="141"/>
                </a:lnTo>
                <a:lnTo>
                  <a:pt x="56" y="141"/>
                </a:lnTo>
                <a:lnTo>
                  <a:pt x="85" y="141"/>
                </a:lnTo>
                <a:lnTo>
                  <a:pt x="127" y="127"/>
                </a:lnTo>
                <a:lnTo>
                  <a:pt x="170" y="127"/>
                </a:lnTo>
                <a:lnTo>
                  <a:pt x="226" y="113"/>
                </a:lnTo>
                <a:lnTo>
                  <a:pt x="283" y="113"/>
                </a:lnTo>
                <a:lnTo>
                  <a:pt x="340" y="99"/>
                </a:lnTo>
                <a:lnTo>
                  <a:pt x="411" y="85"/>
                </a:lnTo>
                <a:lnTo>
                  <a:pt x="467" y="85"/>
                </a:lnTo>
                <a:lnTo>
                  <a:pt x="510" y="70"/>
                </a:lnTo>
                <a:lnTo>
                  <a:pt x="567" y="56"/>
                </a:lnTo>
                <a:lnTo>
                  <a:pt x="609" y="42"/>
                </a:lnTo>
                <a:lnTo>
                  <a:pt x="652" y="28"/>
                </a:lnTo>
                <a:lnTo>
                  <a:pt x="694" y="14"/>
                </a:lnTo>
                <a:lnTo>
                  <a:pt x="722" y="14"/>
                </a:lnTo>
                <a:lnTo>
                  <a:pt x="765" y="0"/>
                </a:lnTo>
                <a:lnTo>
                  <a:pt x="793" y="0"/>
                </a:lnTo>
                <a:lnTo>
                  <a:pt x="822" y="0"/>
                </a:lnTo>
                <a:lnTo>
                  <a:pt x="850" y="0"/>
                </a:lnTo>
                <a:lnTo>
                  <a:pt x="878" y="0"/>
                </a:lnTo>
                <a:lnTo>
                  <a:pt x="907" y="14"/>
                </a:lnTo>
                <a:lnTo>
                  <a:pt x="935" y="28"/>
                </a:lnTo>
                <a:lnTo>
                  <a:pt x="963" y="5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3059280" y="404640"/>
            <a:ext cx="230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k ě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547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9" name="Text Box 3"/>
          <p:cNvSpPr/>
          <p:nvPr/>
        </p:nvSpPr>
        <p:spPr>
          <a:xfrm>
            <a:off x="3500280" y="-284040"/>
            <a:ext cx="295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700" spc="-1" strike="noStrike" u="sng">
                <a:solidFill>
                  <a:srgbClr val="000000"/>
                </a:solidFill>
                <a:uFillTx/>
                <a:latin typeface="方正舒体"/>
                <a:ea typeface="方正舒体"/>
              </a:rPr>
              <a:t>kě</a:t>
            </a:r>
            <a:endParaRPr b="0" i="1" lang="en-US" sz="117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0" name="Group 4"/>
          <p:cNvGrpSpPr/>
          <p:nvPr/>
        </p:nvGrpSpPr>
        <p:grpSpPr>
          <a:xfrm>
            <a:off x="2152800" y="1257480"/>
            <a:ext cx="5688000" cy="5300640"/>
            <a:chOff x="2152800" y="1257480"/>
            <a:chExt cx="5688000" cy="5300640"/>
          </a:xfrm>
        </p:grpSpPr>
        <p:sp>
          <p:nvSpPr>
            <p:cNvPr id="551" name="Rectangle 5"/>
            <p:cNvSpPr/>
            <p:nvPr/>
          </p:nvSpPr>
          <p:spPr>
            <a:xfrm>
              <a:off x="2152800" y="12574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2152800" y="3921480"/>
              <a:ext cx="5688000" cy="360"/>
              <a:chOff x="2152800" y="3921480"/>
              <a:chExt cx="5688000" cy="360"/>
            </a:xfrm>
          </p:grpSpPr>
          <p:sp>
            <p:nvSpPr>
              <p:cNvPr id="553" name="Line 6"/>
              <p:cNvSpPr/>
              <p:nvPr/>
            </p:nvSpPr>
            <p:spPr>
              <a:xfrm>
                <a:off x="2152800" y="392148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2152800" y="392148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556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8" name="Text Box 9"/>
          <p:cNvSpPr/>
          <p:nvPr/>
        </p:nvSpPr>
        <p:spPr>
          <a:xfrm>
            <a:off x="3496680" y="83664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可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可以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可能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可爱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6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6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6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69" name="Rectangle 7"/>
          <p:cNvSpPr/>
          <p:nvPr/>
        </p:nvSpPr>
        <p:spPr>
          <a:xfrm>
            <a:off x="3352320" y="1897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3123000" y="1965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771640" y="7621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d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ō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ng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2987640" y="2133720"/>
            <a:ext cx="3168720" cy="39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5000" spc="-1" strike="noStrike" u="sng">
                <a:solidFill>
                  <a:srgbClr val="ff0000"/>
                </a:solidFill>
                <a:uFillTx/>
                <a:latin typeface="Calibri"/>
                <a:ea typeface="楷体"/>
              </a:rPr>
              <a:t>东</a:t>
            </a:r>
            <a:endParaRPr b="0" i="1" lang="en-US" sz="25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574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76" name="Group 3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577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979640" y="4077000"/>
              <a:ext cx="5688000" cy="360"/>
              <a:chOff x="1979640" y="4077000"/>
              <a:chExt cx="5688000" cy="360"/>
            </a:xfrm>
          </p:grpSpPr>
          <p:sp>
            <p:nvSpPr>
              <p:cNvPr id="579" name="Line 6"/>
              <p:cNvSpPr/>
              <p:nvPr/>
            </p:nvSpPr>
            <p:spPr>
              <a:xfrm>
                <a:off x="1979640" y="407700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1979640" y="407700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582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4" name="Text Box 9"/>
          <p:cNvSpPr/>
          <p:nvPr/>
        </p:nvSpPr>
        <p:spPr>
          <a:xfrm>
            <a:off x="3425040" y="90792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"/>
              </a:rPr>
              <a:t>东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0" y="150012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东边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向东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东头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Box 2"/>
          <p:cNvSpPr/>
          <p:nvPr/>
        </p:nvSpPr>
        <p:spPr>
          <a:xfrm>
            <a:off x="3059280" y="765000"/>
            <a:ext cx="331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8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8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9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9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9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9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96" name="Rectangle 7"/>
          <p:cNvSpPr/>
          <p:nvPr/>
        </p:nvSpPr>
        <p:spPr>
          <a:xfrm>
            <a:off x="3352320" y="1897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3123000" y="1965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未知"/>
          <p:cNvSpPr/>
          <p:nvPr/>
        </p:nvSpPr>
        <p:spPr>
          <a:xfrm>
            <a:off x="3581280" y="2819520"/>
            <a:ext cx="1835280" cy="377640"/>
          </a:xfrm>
          <a:custGeom>
            <a:avLst/>
            <a:gdLst/>
            <a:ahLst/>
            <a:rect l="l" t="t" r="r" b="b"/>
            <a:pathLst>
              <a:path w="2890" h="594">
                <a:moveTo>
                  <a:pt x="99" y="509"/>
                </a:moveTo>
                <a:lnTo>
                  <a:pt x="85" y="495"/>
                </a:lnTo>
                <a:lnTo>
                  <a:pt x="56" y="481"/>
                </a:lnTo>
                <a:lnTo>
                  <a:pt x="42" y="467"/>
                </a:lnTo>
                <a:lnTo>
                  <a:pt x="28" y="453"/>
                </a:lnTo>
                <a:lnTo>
                  <a:pt x="14" y="438"/>
                </a:lnTo>
                <a:lnTo>
                  <a:pt x="0" y="424"/>
                </a:lnTo>
                <a:lnTo>
                  <a:pt x="0" y="410"/>
                </a:lnTo>
                <a:lnTo>
                  <a:pt x="0" y="396"/>
                </a:lnTo>
                <a:lnTo>
                  <a:pt x="14" y="396"/>
                </a:lnTo>
                <a:lnTo>
                  <a:pt x="28" y="396"/>
                </a:lnTo>
                <a:lnTo>
                  <a:pt x="42" y="396"/>
                </a:lnTo>
                <a:lnTo>
                  <a:pt x="71" y="382"/>
                </a:lnTo>
                <a:lnTo>
                  <a:pt x="99" y="382"/>
                </a:lnTo>
                <a:lnTo>
                  <a:pt x="127" y="382"/>
                </a:lnTo>
                <a:lnTo>
                  <a:pt x="156" y="382"/>
                </a:lnTo>
                <a:lnTo>
                  <a:pt x="184" y="382"/>
                </a:lnTo>
                <a:lnTo>
                  <a:pt x="226" y="382"/>
                </a:lnTo>
                <a:lnTo>
                  <a:pt x="283" y="382"/>
                </a:lnTo>
                <a:lnTo>
                  <a:pt x="340" y="382"/>
                </a:lnTo>
                <a:lnTo>
                  <a:pt x="397" y="382"/>
                </a:lnTo>
                <a:lnTo>
                  <a:pt x="467" y="382"/>
                </a:lnTo>
                <a:lnTo>
                  <a:pt x="552" y="368"/>
                </a:lnTo>
                <a:lnTo>
                  <a:pt x="581" y="368"/>
                </a:lnTo>
                <a:lnTo>
                  <a:pt x="623" y="354"/>
                </a:lnTo>
                <a:lnTo>
                  <a:pt x="680" y="354"/>
                </a:lnTo>
                <a:lnTo>
                  <a:pt x="722" y="340"/>
                </a:lnTo>
                <a:lnTo>
                  <a:pt x="779" y="340"/>
                </a:lnTo>
                <a:lnTo>
                  <a:pt x="850" y="325"/>
                </a:lnTo>
                <a:lnTo>
                  <a:pt x="907" y="311"/>
                </a:lnTo>
                <a:lnTo>
                  <a:pt x="977" y="297"/>
                </a:lnTo>
                <a:lnTo>
                  <a:pt x="1048" y="283"/>
                </a:lnTo>
                <a:lnTo>
                  <a:pt x="1133" y="269"/>
                </a:lnTo>
                <a:lnTo>
                  <a:pt x="1204" y="255"/>
                </a:lnTo>
                <a:lnTo>
                  <a:pt x="1289" y="241"/>
                </a:lnTo>
                <a:lnTo>
                  <a:pt x="1388" y="212"/>
                </a:lnTo>
                <a:lnTo>
                  <a:pt x="1473" y="198"/>
                </a:lnTo>
                <a:lnTo>
                  <a:pt x="1573" y="170"/>
                </a:lnTo>
                <a:lnTo>
                  <a:pt x="1686" y="142"/>
                </a:lnTo>
                <a:lnTo>
                  <a:pt x="1771" y="113"/>
                </a:lnTo>
                <a:lnTo>
                  <a:pt x="1870" y="99"/>
                </a:lnTo>
                <a:lnTo>
                  <a:pt x="1955" y="85"/>
                </a:lnTo>
                <a:lnTo>
                  <a:pt x="2040" y="57"/>
                </a:lnTo>
                <a:lnTo>
                  <a:pt x="2125" y="43"/>
                </a:lnTo>
                <a:lnTo>
                  <a:pt x="2196" y="43"/>
                </a:lnTo>
                <a:lnTo>
                  <a:pt x="2267" y="29"/>
                </a:lnTo>
                <a:lnTo>
                  <a:pt x="2338" y="14"/>
                </a:lnTo>
                <a:lnTo>
                  <a:pt x="2394" y="14"/>
                </a:lnTo>
                <a:lnTo>
                  <a:pt x="2451" y="0"/>
                </a:lnTo>
                <a:lnTo>
                  <a:pt x="2508" y="0"/>
                </a:lnTo>
                <a:lnTo>
                  <a:pt x="2550" y="0"/>
                </a:lnTo>
                <a:lnTo>
                  <a:pt x="2593" y="0"/>
                </a:lnTo>
                <a:lnTo>
                  <a:pt x="2635" y="0"/>
                </a:lnTo>
                <a:lnTo>
                  <a:pt x="2678" y="0"/>
                </a:lnTo>
                <a:lnTo>
                  <a:pt x="2706" y="0"/>
                </a:lnTo>
                <a:lnTo>
                  <a:pt x="2749" y="14"/>
                </a:lnTo>
                <a:lnTo>
                  <a:pt x="2791" y="29"/>
                </a:lnTo>
                <a:lnTo>
                  <a:pt x="2819" y="43"/>
                </a:lnTo>
                <a:lnTo>
                  <a:pt x="2848" y="57"/>
                </a:lnTo>
                <a:lnTo>
                  <a:pt x="2862" y="85"/>
                </a:lnTo>
                <a:lnTo>
                  <a:pt x="2876" y="99"/>
                </a:lnTo>
                <a:lnTo>
                  <a:pt x="2890" y="113"/>
                </a:lnTo>
                <a:lnTo>
                  <a:pt x="2890" y="142"/>
                </a:lnTo>
                <a:lnTo>
                  <a:pt x="2890" y="156"/>
                </a:lnTo>
                <a:lnTo>
                  <a:pt x="2890" y="170"/>
                </a:lnTo>
                <a:lnTo>
                  <a:pt x="2876" y="170"/>
                </a:lnTo>
                <a:lnTo>
                  <a:pt x="2876" y="184"/>
                </a:lnTo>
                <a:lnTo>
                  <a:pt x="2862" y="198"/>
                </a:lnTo>
                <a:lnTo>
                  <a:pt x="2848" y="198"/>
                </a:lnTo>
                <a:lnTo>
                  <a:pt x="2819" y="212"/>
                </a:lnTo>
                <a:lnTo>
                  <a:pt x="2805" y="226"/>
                </a:lnTo>
                <a:lnTo>
                  <a:pt x="2777" y="241"/>
                </a:lnTo>
                <a:lnTo>
                  <a:pt x="2749" y="241"/>
                </a:lnTo>
                <a:lnTo>
                  <a:pt x="2720" y="255"/>
                </a:lnTo>
                <a:lnTo>
                  <a:pt x="2692" y="269"/>
                </a:lnTo>
                <a:lnTo>
                  <a:pt x="2649" y="269"/>
                </a:lnTo>
                <a:lnTo>
                  <a:pt x="2621" y="283"/>
                </a:lnTo>
                <a:lnTo>
                  <a:pt x="2579" y="297"/>
                </a:lnTo>
                <a:lnTo>
                  <a:pt x="2536" y="311"/>
                </a:lnTo>
                <a:lnTo>
                  <a:pt x="2479" y="311"/>
                </a:lnTo>
                <a:lnTo>
                  <a:pt x="2423" y="325"/>
                </a:lnTo>
                <a:lnTo>
                  <a:pt x="2366" y="340"/>
                </a:lnTo>
                <a:lnTo>
                  <a:pt x="2309" y="354"/>
                </a:lnTo>
                <a:lnTo>
                  <a:pt x="2253" y="368"/>
                </a:lnTo>
                <a:lnTo>
                  <a:pt x="2182" y="382"/>
                </a:lnTo>
                <a:lnTo>
                  <a:pt x="2111" y="382"/>
                </a:lnTo>
                <a:lnTo>
                  <a:pt x="2040" y="396"/>
                </a:lnTo>
                <a:lnTo>
                  <a:pt x="1955" y="410"/>
                </a:lnTo>
                <a:lnTo>
                  <a:pt x="1870" y="424"/>
                </a:lnTo>
                <a:lnTo>
                  <a:pt x="1785" y="438"/>
                </a:lnTo>
                <a:lnTo>
                  <a:pt x="1700" y="438"/>
                </a:lnTo>
                <a:lnTo>
                  <a:pt x="1601" y="453"/>
                </a:lnTo>
                <a:lnTo>
                  <a:pt x="1502" y="467"/>
                </a:lnTo>
                <a:lnTo>
                  <a:pt x="1403" y="481"/>
                </a:lnTo>
                <a:lnTo>
                  <a:pt x="1289" y="495"/>
                </a:lnTo>
                <a:lnTo>
                  <a:pt x="1190" y="509"/>
                </a:lnTo>
                <a:lnTo>
                  <a:pt x="1091" y="523"/>
                </a:lnTo>
                <a:lnTo>
                  <a:pt x="1006" y="537"/>
                </a:lnTo>
                <a:lnTo>
                  <a:pt x="907" y="552"/>
                </a:lnTo>
                <a:lnTo>
                  <a:pt x="836" y="552"/>
                </a:lnTo>
                <a:lnTo>
                  <a:pt x="751" y="566"/>
                </a:lnTo>
                <a:lnTo>
                  <a:pt x="694" y="580"/>
                </a:lnTo>
                <a:lnTo>
                  <a:pt x="623" y="580"/>
                </a:lnTo>
                <a:lnTo>
                  <a:pt x="567" y="594"/>
                </a:lnTo>
                <a:lnTo>
                  <a:pt x="510" y="594"/>
                </a:lnTo>
                <a:lnTo>
                  <a:pt x="467" y="594"/>
                </a:lnTo>
                <a:lnTo>
                  <a:pt x="439" y="594"/>
                </a:lnTo>
                <a:lnTo>
                  <a:pt x="397" y="594"/>
                </a:lnTo>
                <a:lnTo>
                  <a:pt x="368" y="594"/>
                </a:lnTo>
                <a:lnTo>
                  <a:pt x="354" y="594"/>
                </a:lnTo>
                <a:lnTo>
                  <a:pt x="340" y="594"/>
                </a:lnTo>
                <a:lnTo>
                  <a:pt x="269" y="580"/>
                </a:lnTo>
                <a:lnTo>
                  <a:pt x="212" y="566"/>
                </a:lnTo>
                <a:lnTo>
                  <a:pt x="156" y="537"/>
                </a:lnTo>
                <a:lnTo>
                  <a:pt x="99" y="509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未知"/>
          <p:cNvSpPr/>
          <p:nvPr/>
        </p:nvSpPr>
        <p:spPr>
          <a:xfrm>
            <a:off x="3870360" y="3124080"/>
            <a:ext cx="396720" cy="1562400"/>
          </a:xfrm>
          <a:custGeom>
            <a:avLst/>
            <a:gdLst/>
            <a:ahLst/>
            <a:rect l="l" t="t" r="r" b="b"/>
            <a:pathLst>
              <a:path w="624" h="2459">
                <a:moveTo>
                  <a:pt x="241" y="14"/>
                </a:moveTo>
                <a:lnTo>
                  <a:pt x="255" y="0"/>
                </a:lnTo>
                <a:lnTo>
                  <a:pt x="269" y="0"/>
                </a:lnTo>
                <a:lnTo>
                  <a:pt x="284" y="0"/>
                </a:lnTo>
                <a:lnTo>
                  <a:pt x="312" y="0"/>
                </a:lnTo>
                <a:lnTo>
                  <a:pt x="340" y="14"/>
                </a:lnTo>
                <a:lnTo>
                  <a:pt x="369" y="28"/>
                </a:lnTo>
                <a:lnTo>
                  <a:pt x="397" y="57"/>
                </a:lnTo>
                <a:lnTo>
                  <a:pt x="439" y="85"/>
                </a:lnTo>
                <a:lnTo>
                  <a:pt x="482" y="113"/>
                </a:lnTo>
                <a:lnTo>
                  <a:pt x="510" y="141"/>
                </a:lnTo>
                <a:lnTo>
                  <a:pt x="539" y="155"/>
                </a:lnTo>
                <a:lnTo>
                  <a:pt x="567" y="184"/>
                </a:lnTo>
                <a:lnTo>
                  <a:pt x="581" y="198"/>
                </a:lnTo>
                <a:lnTo>
                  <a:pt x="609" y="226"/>
                </a:lnTo>
                <a:lnTo>
                  <a:pt x="624" y="226"/>
                </a:lnTo>
                <a:lnTo>
                  <a:pt x="624" y="240"/>
                </a:lnTo>
                <a:lnTo>
                  <a:pt x="624" y="254"/>
                </a:lnTo>
                <a:lnTo>
                  <a:pt x="624" y="269"/>
                </a:lnTo>
                <a:lnTo>
                  <a:pt x="624" y="297"/>
                </a:lnTo>
                <a:lnTo>
                  <a:pt x="624" y="325"/>
                </a:lnTo>
                <a:lnTo>
                  <a:pt x="624" y="382"/>
                </a:lnTo>
                <a:lnTo>
                  <a:pt x="624" y="438"/>
                </a:lnTo>
                <a:lnTo>
                  <a:pt x="624" y="495"/>
                </a:lnTo>
                <a:lnTo>
                  <a:pt x="624" y="580"/>
                </a:lnTo>
                <a:lnTo>
                  <a:pt x="624" y="650"/>
                </a:lnTo>
                <a:lnTo>
                  <a:pt x="624" y="749"/>
                </a:lnTo>
                <a:lnTo>
                  <a:pt x="624" y="848"/>
                </a:lnTo>
                <a:lnTo>
                  <a:pt x="624" y="947"/>
                </a:lnTo>
                <a:lnTo>
                  <a:pt x="609" y="1046"/>
                </a:lnTo>
                <a:lnTo>
                  <a:pt x="595" y="1145"/>
                </a:lnTo>
                <a:lnTo>
                  <a:pt x="581" y="1258"/>
                </a:lnTo>
                <a:lnTo>
                  <a:pt x="567" y="1357"/>
                </a:lnTo>
                <a:lnTo>
                  <a:pt x="539" y="1470"/>
                </a:lnTo>
                <a:lnTo>
                  <a:pt x="524" y="1583"/>
                </a:lnTo>
                <a:lnTo>
                  <a:pt x="496" y="1696"/>
                </a:lnTo>
                <a:lnTo>
                  <a:pt x="468" y="1795"/>
                </a:lnTo>
                <a:lnTo>
                  <a:pt x="425" y="1894"/>
                </a:lnTo>
                <a:lnTo>
                  <a:pt x="397" y="1979"/>
                </a:lnTo>
                <a:lnTo>
                  <a:pt x="354" y="2064"/>
                </a:lnTo>
                <a:lnTo>
                  <a:pt x="312" y="2148"/>
                </a:lnTo>
                <a:lnTo>
                  <a:pt x="269" y="2219"/>
                </a:lnTo>
                <a:lnTo>
                  <a:pt x="241" y="2247"/>
                </a:lnTo>
                <a:lnTo>
                  <a:pt x="213" y="2276"/>
                </a:lnTo>
                <a:lnTo>
                  <a:pt x="184" y="2304"/>
                </a:lnTo>
                <a:lnTo>
                  <a:pt x="170" y="2332"/>
                </a:lnTo>
                <a:lnTo>
                  <a:pt x="142" y="2360"/>
                </a:lnTo>
                <a:lnTo>
                  <a:pt x="128" y="2375"/>
                </a:lnTo>
                <a:lnTo>
                  <a:pt x="114" y="2403"/>
                </a:lnTo>
                <a:lnTo>
                  <a:pt x="85" y="2417"/>
                </a:lnTo>
                <a:lnTo>
                  <a:pt x="71" y="2431"/>
                </a:lnTo>
                <a:lnTo>
                  <a:pt x="57" y="2445"/>
                </a:lnTo>
                <a:lnTo>
                  <a:pt x="43" y="2459"/>
                </a:lnTo>
                <a:lnTo>
                  <a:pt x="29" y="2459"/>
                </a:lnTo>
                <a:lnTo>
                  <a:pt x="14" y="2459"/>
                </a:lnTo>
                <a:lnTo>
                  <a:pt x="0" y="2445"/>
                </a:lnTo>
                <a:lnTo>
                  <a:pt x="0" y="2431"/>
                </a:lnTo>
                <a:lnTo>
                  <a:pt x="0" y="2403"/>
                </a:lnTo>
                <a:lnTo>
                  <a:pt x="14" y="2375"/>
                </a:lnTo>
                <a:lnTo>
                  <a:pt x="29" y="2346"/>
                </a:lnTo>
                <a:lnTo>
                  <a:pt x="43" y="2290"/>
                </a:lnTo>
                <a:lnTo>
                  <a:pt x="71" y="2233"/>
                </a:lnTo>
                <a:lnTo>
                  <a:pt x="85" y="2205"/>
                </a:lnTo>
                <a:lnTo>
                  <a:pt x="99" y="2177"/>
                </a:lnTo>
                <a:lnTo>
                  <a:pt x="128" y="2106"/>
                </a:lnTo>
                <a:lnTo>
                  <a:pt x="156" y="2035"/>
                </a:lnTo>
                <a:lnTo>
                  <a:pt x="184" y="1965"/>
                </a:lnTo>
                <a:lnTo>
                  <a:pt x="213" y="1880"/>
                </a:lnTo>
                <a:lnTo>
                  <a:pt x="241" y="1795"/>
                </a:lnTo>
                <a:lnTo>
                  <a:pt x="255" y="1710"/>
                </a:lnTo>
                <a:lnTo>
                  <a:pt x="284" y="1611"/>
                </a:lnTo>
                <a:lnTo>
                  <a:pt x="312" y="1512"/>
                </a:lnTo>
                <a:lnTo>
                  <a:pt x="340" y="1315"/>
                </a:lnTo>
                <a:lnTo>
                  <a:pt x="354" y="1117"/>
                </a:lnTo>
                <a:lnTo>
                  <a:pt x="369" y="919"/>
                </a:lnTo>
                <a:lnTo>
                  <a:pt x="369" y="721"/>
                </a:lnTo>
                <a:lnTo>
                  <a:pt x="369" y="622"/>
                </a:lnTo>
                <a:lnTo>
                  <a:pt x="354" y="551"/>
                </a:lnTo>
                <a:lnTo>
                  <a:pt x="354" y="466"/>
                </a:lnTo>
                <a:lnTo>
                  <a:pt x="340" y="410"/>
                </a:lnTo>
                <a:lnTo>
                  <a:pt x="326" y="339"/>
                </a:lnTo>
                <a:lnTo>
                  <a:pt x="312" y="297"/>
                </a:lnTo>
                <a:lnTo>
                  <a:pt x="298" y="240"/>
                </a:lnTo>
                <a:lnTo>
                  <a:pt x="284" y="198"/>
                </a:lnTo>
                <a:lnTo>
                  <a:pt x="269" y="170"/>
                </a:lnTo>
                <a:lnTo>
                  <a:pt x="255" y="127"/>
                </a:lnTo>
                <a:lnTo>
                  <a:pt x="255" y="99"/>
                </a:lnTo>
                <a:lnTo>
                  <a:pt x="241" y="85"/>
                </a:lnTo>
                <a:lnTo>
                  <a:pt x="241" y="57"/>
                </a:lnTo>
                <a:lnTo>
                  <a:pt x="241" y="42"/>
                </a:lnTo>
                <a:lnTo>
                  <a:pt x="241" y="28"/>
                </a:lnTo>
                <a:lnTo>
                  <a:pt x="241" y="14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未知"/>
          <p:cNvSpPr/>
          <p:nvPr/>
        </p:nvSpPr>
        <p:spPr>
          <a:xfrm>
            <a:off x="3200400" y="3886200"/>
            <a:ext cx="441360" cy="1390680"/>
          </a:xfrm>
          <a:custGeom>
            <a:avLst/>
            <a:gdLst/>
            <a:ahLst/>
            <a:rect l="l" t="t" r="r" b="b"/>
            <a:pathLst>
              <a:path w="695" h="2191">
                <a:moveTo>
                  <a:pt x="85" y="226"/>
                </a:moveTo>
                <a:lnTo>
                  <a:pt x="57" y="184"/>
                </a:lnTo>
                <a:lnTo>
                  <a:pt x="29" y="141"/>
                </a:lnTo>
                <a:lnTo>
                  <a:pt x="15" y="113"/>
                </a:lnTo>
                <a:lnTo>
                  <a:pt x="0" y="85"/>
                </a:lnTo>
                <a:lnTo>
                  <a:pt x="0" y="56"/>
                </a:lnTo>
                <a:lnTo>
                  <a:pt x="0" y="42"/>
                </a:lnTo>
                <a:lnTo>
                  <a:pt x="15" y="28"/>
                </a:lnTo>
                <a:lnTo>
                  <a:pt x="29" y="14"/>
                </a:lnTo>
                <a:lnTo>
                  <a:pt x="43" y="0"/>
                </a:lnTo>
                <a:lnTo>
                  <a:pt x="71" y="0"/>
                </a:lnTo>
                <a:lnTo>
                  <a:pt x="100" y="0"/>
                </a:lnTo>
                <a:lnTo>
                  <a:pt x="156" y="14"/>
                </a:lnTo>
                <a:lnTo>
                  <a:pt x="170" y="28"/>
                </a:lnTo>
                <a:lnTo>
                  <a:pt x="199" y="28"/>
                </a:lnTo>
                <a:lnTo>
                  <a:pt x="227" y="28"/>
                </a:lnTo>
                <a:lnTo>
                  <a:pt x="270" y="42"/>
                </a:lnTo>
                <a:lnTo>
                  <a:pt x="298" y="42"/>
                </a:lnTo>
                <a:lnTo>
                  <a:pt x="340" y="42"/>
                </a:lnTo>
                <a:lnTo>
                  <a:pt x="383" y="56"/>
                </a:lnTo>
                <a:lnTo>
                  <a:pt x="425" y="56"/>
                </a:lnTo>
                <a:lnTo>
                  <a:pt x="454" y="169"/>
                </a:lnTo>
                <a:lnTo>
                  <a:pt x="468" y="282"/>
                </a:lnTo>
                <a:lnTo>
                  <a:pt x="482" y="396"/>
                </a:lnTo>
                <a:lnTo>
                  <a:pt x="496" y="509"/>
                </a:lnTo>
                <a:lnTo>
                  <a:pt x="525" y="622"/>
                </a:lnTo>
                <a:lnTo>
                  <a:pt x="539" y="721"/>
                </a:lnTo>
                <a:lnTo>
                  <a:pt x="553" y="820"/>
                </a:lnTo>
                <a:lnTo>
                  <a:pt x="567" y="919"/>
                </a:lnTo>
                <a:lnTo>
                  <a:pt x="581" y="1017"/>
                </a:lnTo>
                <a:lnTo>
                  <a:pt x="595" y="1102"/>
                </a:lnTo>
                <a:lnTo>
                  <a:pt x="610" y="1201"/>
                </a:lnTo>
                <a:lnTo>
                  <a:pt x="624" y="1286"/>
                </a:lnTo>
                <a:lnTo>
                  <a:pt x="638" y="1371"/>
                </a:lnTo>
                <a:lnTo>
                  <a:pt x="638" y="1441"/>
                </a:lnTo>
                <a:lnTo>
                  <a:pt x="652" y="1526"/>
                </a:lnTo>
                <a:lnTo>
                  <a:pt x="666" y="1597"/>
                </a:lnTo>
                <a:lnTo>
                  <a:pt x="666" y="1668"/>
                </a:lnTo>
                <a:lnTo>
                  <a:pt x="680" y="1738"/>
                </a:lnTo>
                <a:lnTo>
                  <a:pt x="680" y="1795"/>
                </a:lnTo>
                <a:lnTo>
                  <a:pt x="680" y="1851"/>
                </a:lnTo>
                <a:lnTo>
                  <a:pt x="695" y="1908"/>
                </a:lnTo>
                <a:lnTo>
                  <a:pt x="695" y="1950"/>
                </a:lnTo>
                <a:lnTo>
                  <a:pt x="695" y="1993"/>
                </a:lnTo>
                <a:lnTo>
                  <a:pt x="695" y="2035"/>
                </a:lnTo>
                <a:lnTo>
                  <a:pt x="695" y="2063"/>
                </a:lnTo>
                <a:lnTo>
                  <a:pt x="680" y="2092"/>
                </a:lnTo>
                <a:lnTo>
                  <a:pt x="680" y="2120"/>
                </a:lnTo>
                <a:lnTo>
                  <a:pt x="680" y="2148"/>
                </a:lnTo>
                <a:lnTo>
                  <a:pt x="666" y="2162"/>
                </a:lnTo>
                <a:lnTo>
                  <a:pt x="666" y="2176"/>
                </a:lnTo>
                <a:lnTo>
                  <a:pt x="652" y="2191"/>
                </a:lnTo>
                <a:lnTo>
                  <a:pt x="638" y="2191"/>
                </a:lnTo>
                <a:lnTo>
                  <a:pt x="624" y="2191"/>
                </a:lnTo>
                <a:lnTo>
                  <a:pt x="610" y="2191"/>
                </a:lnTo>
                <a:lnTo>
                  <a:pt x="595" y="2176"/>
                </a:lnTo>
                <a:lnTo>
                  <a:pt x="581" y="2176"/>
                </a:lnTo>
                <a:lnTo>
                  <a:pt x="581" y="2162"/>
                </a:lnTo>
                <a:lnTo>
                  <a:pt x="567" y="2134"/>
                </a:lnTo>
                <a:lnTo>
                  <a:pt x="553" y="2120"/>
                </a:lnTo>
                <a:lnTo>
                  <a:pt x="553" y="2092"/>
                </a:lnTo>
                <a:lnTo>
                  <a:pt x="539" y="2078"/>
                </a:lnTo>
                <a:lnTo>
                  <a:pt x="539" y="2049"/>
                </a:lnTo>
                <a:lnTo>
                  <a:pt x="525" y="2007"/>
                </a:lnTo>
                <a:lnTo>
                  <a:pt x="510" y="1979"/>
                </a:lnTo>
                <a:lnTo>
                  <a:pt x="510" y="1950"/>
                </a:lnTo>
                <a:lnTo>
                  <a:pt x="496" y="1908"/>
                </a:lnTo>
                <a:lnTo>
                  <a:pt x="496" y="1866"/>
                </a:lnTo>
                <a:lnTo>
                  <a:pt x="468" y="1781"/>
                </a:lnTo>
                <a:lnTo>
                  <a:pt x="454" y="1682"/>
                </a:lnTo>
                <a:lnTo>
                  <a:pt x="425" y="1569"/>
                </a:lnTo>
                <a:lnTo>
                  <a:pt x="411" y="1470"/>
                </a:lnTo>
                <a:lnTo>
                  <a:pt x="383" y="1343"/>
                </a:lnTo>
                <a:lnTo>
                  <a:pt x="369" y="1229"/>
                </a:lnTo>
                <a:lnTo>
                  <a:pt x="340" y="1102"/>
                </a:lnTo>
                <a:lnTo>
                  <a:pt x="326" y="961"/>
                </a:lnTo>
                <a:lnTo>
                  <a:pt x="312" y="890"/>
                </a:lnTo>
                <a:lnTo>
                  <a:pt x="298" y="834"/>
                </a:lnTo>
                <a:lnTo>
                  <a:pt x="284" y="763"/>
                </a:lnTo>
                <a:lnTo>
                  <a:pt x="270" y="706"/>
                </a:lnTo>
                <a:lnTo>
                  <a:pt x="255" y="650"/>
                </a:lnTo>
                <a:lnTo>
                  <a:pt x="241" y="593"/>
                </a:lnTo>
                <a:lnTo>
                  <a:pt x="227" y="551"/>
                </a:lnTo>
                <a:lnTo>
                  <a:pt x="213" y="494"/>
                </a:lnTo>
                <a:lnTo>
                  <a:pt x="199" y="452"/>
                </a:lnTo>
                <a:lnTo>
                  <a:pt x="185" y="410"/>
                </a:lnTo>
                <a:lnTo>
                  <a:pt x="170" y="367"/>
                </a:lnTo>
                <a:lnTo>
                  <a:pt x="156" y="339"/>
                </a:lnTo>
                <a:lnTo>
                  <a:pt x="128" y="297"/>
                </a:lnTo>
                <a:lnTo>
                  <a:pt x="114" y="268"/>
                </a:lnTo>
                <a:lnTo>
                  <a:pt x="100" y="240"/>
                </a:lnTo>
                <a:lnTo>
                  <a:pt x="85" y="22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3581280" y="4797360"/>
            <a:ext cx="1998720" cy="287280"/>
          </a:xfrm>
          <a:custGeom>
            <a:avLst/>
            <a:gdLst/>
            <a:ahLst/>
            <a:rect l="l" t="t" r="r" b="b"/>
            <a:pathLst>
              <a:path w="2621" h="424">
                <a:moveTo>
                  <a:pt x="0" y="226"/>
                </a:moveTo>
                <a:lnTo>
                  <a:pt x="14" y="226"/>
                </a:lnTo>
                <a:lnTo>
                  <a:pt x="28" y="226"/>
                </a:lnTo>
                <a:lnTo>
                  <a:pt x="56" y="212"/>
                </a:lnTo>
                <a:lnTo>
                  <a:pt x="85" y="212"/>
                </a:lnTo>
                <a:lnTo>
                  <a:pt x="127" y="212"/>
                </a:lnTo>
                <a:lnTo>
                  <a:pt x="170" y="212"/>
                </a:lnTo>
                <a:lnTo>
                  <a:pt x="226" y="198"/>
                </a:lnTo>
                <a:lnTo>
                  <a:pt x="283" y="198"/>
                </a:lnTo>
                <a:lnTo>
                  <a:pt x="340" y="183"/>
                </a:lnTo>
                <a:lnTo>
                  <a:pt x="411" y="169"/>
                </a:lnTo>
                <a:lnTo>
                  <a:pt x="482" y="169"/>
                </a:lnTo>
                <a:lnTo>
                  <a:pt x="567" y="155"/>
                </a:lnTo>
                <a:lnTo>
                  <a:pt x="652" y="141"/>
                </a:lnTo>
                <a:lnTo>
                  <a:pt x="737" y="127"/>
                </a:lnTo>
                <a:lnTo>
                  <a:pt x="836" y="113"/>
                </a:lnTo>
                <a:lnTo>
                  <a:pt x="935" y="99"/>
                </a:lnTo>
                <a:lnTo>
                  <a:pt x="1034" y="84"/>
                </a:lnTo>
                <a:lnTo>
                  <a:pt x="1133" y="70"/>
                </a:lnTo>
                <a:lnTo>
                  <a:pt x="1233" y="70"/>
                </a:lnTo>
                <a:lnTo>
                  <a:pt x="1318" y="56"/>
                </a:lnTo>
                <a:lnTo>
                  <a:pt x="1403" y="42"/>
                </a:lnTo>
                <a:lnTo>
                  <a:pt x="1488" y="42"/>
                </a:lnTo>
                <a:lnTo>
                  <a:pt x="1573" y="28"/>
                </a:lnTo>
                <a:lnTo>
                  <a:pt x="1643" y="28"/>
                </a:lnTo>
                <a:lnTo>
                  <a:pt x="1728" y="14"/>
                </a:lnTo>
                <a:lnTo>
                  <a:pt x="1799" y="14"/>
                </a:lnTo>
                <a:lnTo>
                  <a:pt x="1856" y="14"/>
                </a:lnTo>
                <a:lnTo>
                  <a:pt x="1913" y="0"/>
                </a:lnTo>
                <a:lnTo>
                  <a:pt x="1983" y="0"/>
                </a:lnTo>
                <a:lnTo>
                  <a:pt x="2026" y="0"/>
                </a:lnTo>
                <a:lnTo>
                  <a:pt x="2083" y="0"/>
                </a:lnTo>
                <a:lnTo>
                  <a:pt x="2125" y="0"/>
                </a:lnTo>
                <a:lnTo>
                  <a:pt x="2210" y="0"/>
                </a:lnTo>
                <a:lnTo>
                  <a:pt x="2295" y="14"/>
                </a:lnTo>
                <a:lnTo>
                  <a:pt x="2366" y="28"/>
                </a:lnTo>
                <a:lnTo>
                  <a:pt x="2423" y="56"/>
                </a:lnTo>
                <a:lnTo>
                  <a:pt x="2494" y="99"/>
                </a:lnTo>
                <a:lnTo>
                  <a:pt x="2536" y="141"/>
                </a:lnTo>
                <a:lnTo>
                  <a:pt x="2579" y="183"/>
                </a:lnTo>
                <a:lnTo>
                  <a:pt x="2621" y="240"/>
                </a:lnTo>
                <a:lnTo>
                  <a:pt x="2508" y="240"/>
                </a:lnTo>
                <a:lnTo>
                  <a:pt x="2409" y="240"/>
                </a:lnTo>
                <a:lnTo>
                  <a:pt x="2295" y="240"/>
                </a:lnTo>
                <a:lnTo>
                  <a:pt x="2182" y="240"/>
                </a:lnTo>
                <a:lnTo>
                  <a:pt x="2068" y="254"/>
                </a:lnTo>
                <a:lnTo>
                  <a:pt x="1941" y="254"/>
                </a:lnTo>
                <a:lnTo>
                  <a:pt x="1813" y="254"/>
                </a:lnTo>
                <a:lnTo>
                  <a:pt x="1686" y="268"/>
                </a:lnTo>
                <a:lnTo>
                  <a:pt x="1615" y="268"/>
                </a:lnTo>
                <a:lnTo>
                  <a:pt x="1530" y="268"/>
                </a:lnTo>
                <a:lnTo>
                  <a:pt x="1459" y="282"/>
                </a:lnTo>
                <a:lnTo>
                  <a:pt x="1374" y="282"/>
                </a:lnTo>
                <a:lnTo>
                  <a:pt x="1289" y="296"/>
                </a:lnTo>
                <a:lnTo>
                  <a:pt x="1190" y="296"/>
                </a:lnTo>
                <a:lnTo>
                  <a:pt x="1091" y="311"/>
                </a:lnTo>
                <a:lnTo>
                  <a:pt x="992" y="325"/>
                </a:lnTo>
                <a:lnTo>
                  <a:pt x="892" y="339"/>
                </a:lnTo>
                <a:lnTo>
                  <a:pt x="779" y="339"/>
                </a:lnTo>
                <a:lnTo>
                  <a:pt x="666" y="353"/>
                </a:lnTo>
                <a:lnTo>
                  <a:pt x="538" y="367"/>
                </a:lnTo>
                <a:lnTo>
                  <a:pt x="411" y="381"/>
                </a:lnTo>
                <a:lnTo>
                  <a:pt x="283" y="395"/>
                </a:lnTo>
                <a:lnTo>
                  <a:pt x="156" y="410"/>
                </a:lnTo>
                <a:lnTo>
                  <a:pt x="14" y="424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2" name="Picture 13" descr=""/>
          <p:cNvPicPr/>
          <p:nvPr/>
        </p:nvPicPr>
        <p:blipFill>
          <a:blip r:embed="rId1"/>
          <a:stretch/>
        </p:blipFill>
        <p:spPr>
          <a:xfrm>
            <a:off x="4343400" y="2943360"/>
            <a:ext cx="657360" cy="1323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4" descr=""/>
          <p:cNvPicPr/>
          <p:nvPr/>
        </p:nvPicPr>
        <p:blipFill>
          <a:blip r:embed="rId2"/>
          <a:stretch/>
        </p:blipFill>
        <p:spPr>
          <a:xfrm>
            <a:off x="4371840" y="4000680"/>
            <a:ext cx="1190880" cy="647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5" descr=""/>
          <p:cNvPicPr/>
          <p:nvPr/>
        </p:nvPicPr>
        <p:blipFill>
          <a:blip r:embed="rId3"/>
          <a:stretch/>
        </p:blipFill>
        <p:spPr>
          <a:xfrm>
            <a:off x="3181320" y="3562200"/>
            <a:ext cx="2762280" cy="7048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6"/>
          <p:cNvSpPr/>
          <p:nvPr/>
        </p:nvSpPr>
        <p:spPr>
          <a:xfrm>
            <a:off x="3564000" y="692280"/>
            <a:ext cx="22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xī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06" name="Picture 17" descr=""/>
          <p:cNvPicPr/>
          <p:nvPr/>
        </p:nvPicPr>
        <p:blipFill>
          <a:blip r:embed="rId4"/>
          <a:stretch/>
        </p:blipFill>
        <p:spPr>
          <a:xfrm>
            <a:off x="5291280" y="3357720"/>
            <a:ext cx="8157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>www.xkb1.com</dc:creator>
  <dc:description>www.xkb1.com</dc:description>
  <cp:keywords>www.xkb1.com</cp:keywords>
  <dc:language>en-US</dc:language>
  <cp:lastModifiedBy>万润仪器贸易公司</cp:lastModifiedBy>
  <dcterms:modified xsi:type="dcterms:W3CDTF">2020-08-24T01:53:38Z</dcterms:modified>
  <cp:revision>246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